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3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1C9-4FDA-4EC3-970D-FDECDBB4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8FBC-4208-49DA-AAA2-0ADAB840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79A9-6F96-4D37-B96B-3CFCFDCA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808-2BED-401B-A3BC-EEF75FCF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1C7B-F44A-4769-893E-7D924E25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A5F6-A269-4685-9218-3FCFAC87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56A8-595E-413F-A738-0D15A357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CB00-FDA2-42A9-8587-0C14B5B9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1658-9544-4F86-A4DA-1498B6A8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1910-E0E8-42D7-B7AF-247DBC85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683B-3AA7-4162-BAC9-906A9163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5EA1-48F1-42E5-B3B5-99925CC7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8C92-5693-4E8C-B092-2E7059659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6320" y="19083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Abigail y el ejército de David (I Samuel 25:18-3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514600" y="297504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cabeza de un líder: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TENDÍ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905120" y="4270680"/>
            <a:ext cx="452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El corazón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M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304920" y="575496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La mano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ttp://b-i.forbesimg.com/meghanbiro/files/2013/05/heart-of-a-coach5.jpeg"/>
          <p:cNvPicPr/>
          <p:nvPr/>
        </p:nvPicPr>
        <p:blipFill>
          <a:blip r:embed="rId2"/>
          <a:srcRect l="22472" t="1020" r="14913" b="20698"/>
          <a:stretch/>
        </p:blipFill>
        <p:spPr>
          <a:xfrm>
            <a:off x="228600" y="3417840"/>
            <a:ext cx="1657440" cy="222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ttp://www.cliparthut.com/clip-arts/1493/man-thinking-clip-art-1493316.png"/>
          <p:cNvPicPr/>
          <p:nvPr/>
        </p:nvPicPr>
        <p:blipFill>
          <a:blip r:embed="rId3"/>
          <a:stretch/>
        </p:blipFill>
        <p:spPr>
          <a:xfrm>
            <a:off x="7547040" y="2444760"/>
            <a:ext cx="1425600" cy="2300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ttp://virginiasalvationarmy.org/hamptonva/files/2012/08/Helping-hand.jpg"/>
          <p:cNvPicPr/>
          <p:nvPr/>
        </p:nvPicPr>
        <p:blipFill>
          <a:blip r:embed="rId4"/>
          <a:stretch/>
        </p:blipFill>
        <p:spPr>
          <a:xfrm>
            <a:off x="5181480" y="5249880"/>
            <a:ext cx="1905120" cy="158112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1455840" y="55080"/>
            <a:ext cx="555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practicar el principi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 intercamb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133720" y="204984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je “su lugar” y visite “el lugar de ellos” para ver así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NTO DE 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733920" y="39261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amin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TITU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987640" y="5754960"/>
            <a:ext cx="59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Pregúntele a otros qué harían ellos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238880" y="108000"/>
            <a:ext cx="1828800" cy="1797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ttp://www.northcornwallclusterofchurches.org.uk/wp-content/uploads/2014/03/LPV-cartoon.jpg"/>
          <p:cNvPicPr/>
          <p:nvPr/>
        </p:nvPicPr>
        <p:blipFill>
          <a:blip r:embed="rId2"/>
          <a:srcRect l="5526" t="10141" r="7110" b="2821"/>
          <a:stretch/>
        </p:blipFill>
        <p:spPr>
          <a:xfrm>
            <a:off x="50760" y="1219320"/>
            <a:ext cx="1967040" cy="2238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ttp://s3.amazonaws.com/rapgenius/1322715984_how-to-draw-gangster-spongebob.jpg"/>
          <p:cNvPicPr/>
          <p:nvPr/>
        </p:nvPicPr>
        <p:blipFill>
          <a:blip r:embed="rId3"/>
          <a:stretch/>
        </p:blipFill>
        <p:spPr>
          <a:xfrm>
            <a:off x="6553080" y="32004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" descr=""/>
          <p:cNvPicPr/>
          <p:nvPr/>
        </p:nvPicPr>
        <p:blipFill>
          <a:blip r:embed="rId4"/>
          <a:stretch/>
        </p:blipFill>
        <p:spPr>
          <a:xfrm>
            <a:off x="152280" y="4452840"/>
            <a:ext cx="272268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1392120" y="114624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143000" y="24120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esfuerzo por ver las cos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de el punto de vista de la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gen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52280" y="29520"/>
            <a:ext cx="88394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da persona que conocemos tiene el potencial de enseñarnos al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" y="160992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s líderes eficientes nunca dejan de crecer.  Que continuemos aprendiendo o no, no tiene que ver con quién nos está enseñando, pero sí tiene mucho que ver con lo dóciles que somos para ser enseñado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2209680" y="4114800"/>
            <a:ext cx="5000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127520" y="79560"/>
            <a:ext cx="70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amán y 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ervo (II Reyes 5:1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21200" y="1106640"/>
            <a:ext cx="756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punto es que no fue dócil ni educable, 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gual que muchos líderes hoy en dí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34640" y="2088360"/>
            <a:ext cx="61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quería un cambio ráp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990720" y="275436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esperó un trato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038960" y="3392640"/>
            <a:ext cx="758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tenía ciertas teorías acerca de l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99072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se enojó al recibir un trato injus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990720" y="567864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rechazó la solución al princip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rcRect l="15074" t="2520" r="17948" b="4472"/>
          <a:stretch/>
        </p:blipFill>
        <p:spPr>
          <a:xfrm>
            <a:off x="5562720" y="4064040"/>
            <a:ext cx="350496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181440" y="117720"/>
            <a:ext cx="560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ómo aprender de otro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447640" y="1037880"/>
            <a:ext cx="42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or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EN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895480" y="267372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ique las caracterís-ticas únicas y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TALEZ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la g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397320" y="5186160"/>
            <a:ext cx="315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g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EGUNT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ttp://images.clipartpanda.com/smiley-face-thumbs-up-Smiley-face-with-thumbs-up.jpg"/>
          <p:cNvPicPr/>
          <p:nvPr/>
        </p:nvPicPr>
        <p:blipFill>
          <a:blip r:embed="rId1"/>
          <a:stretch/>
        </p:blipFill>
        <p:spPr>
          <a:xfrm>
            <a:off x="6554880" y="531720"/>
            <a:ext cx="2208240" cy="190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ttp://www.talentinsights.com/wp-content/uploads/2014/12/Strength-Change.jpg"/>
          <p:cNvPicPr/>
          <p:nvPr/>
        </p:nvPicPr>
        <p:blipFill>
          <a:blip r:embed="rId2"/>
          <a:srcRect l="5661" t="-803" r="10249" b="3777"/>
          <a:stretch/>
        </p:blipFill>
        <p:spPr>
          <a:xfrm>
            <a:off x="304920" y="2103480"/>
            <a:ext cx="23778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" descr=""/>
          <p:cNvPicPr/>
          <p:nvPr/>
        </p:nvPicPr>
        <p:blipFill>
          <a:blip r:embed="rId3"/>
          <a:stretch/>
        </p:blipFill>
        <p:spPr>
          <a:xfrm>
            <a:off x="6664320" y="4641840"/>
            <a:ext cx="20988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1316160" y="117576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828800" y="253404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acerco a la gente con 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eo de aprender de ella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04920" y="44964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gente se interesa en la persona que se interesa en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ttp://2012books.lardbucket.org/books/a-primer-on-communication-studies/section_05/4b2a5b9106de73674acc95"/>
          <p:cNvPicPr/>
          <p:nvPr/>
        </p:nvPicPr>
        <p:blipFill>
          <a:blip r:embed="rId1"/>
          <a:stretch/>
        </p:blipFill>
        <p:spPr>
          <a:xfrm>
            <a:off x="4724280" y="2270160"/>
            <a:ext cx="3706920" cy="2469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50760" y="5181480"/>
            <a:ext cx="904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as personas no les importa qué tanto sepa, hasta que saben lo mucho que le importan a uste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990720" y="21348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atá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6320" y="117180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.  Jonatán estab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ISPONI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I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76320" y="222264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.  Jonatán e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VULNER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SPONS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4572000" y="3346560"/>
            <a:ext cx="43988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152280" y="80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edificar su caris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320" y="689040"/>
            <a:ext cx="585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é verdaderamente interesado en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2246760" y="2305080"/>
            <a:ext cx="35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ría a menu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209680" y="3142080"/>
            <a:ext cx="472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uerde que el nombre de una persona es importante para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2177280" y="4914000"/>
            <a:ext cx="47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 un buen escuch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1306440" y="5718240"/>
            <a:ext cx="61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ga sentir sinceramente importantes a las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ttp://www.cliparthut.com/clip-arts/20/effective-communication-clip-art-20367.png"/>
          <p:cNvPicPr/>
          <p:nvPr/>
        </p:nvPicPr>
        <p:blipFill>
          <a:blip r:embed="rId1"/>
          <a:stretch/>
        </p:blipFill>
        <p:spPr>
          <a:xfrm>
            <a:off x="5791320" y="279360"/>
            <a:ext cx="3278160" cy="146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ttp://cache4.asset-cache.net/gc/165671537-cute-smiling-girl-grilling-on-a-barbecue-gettyimages.jpg?v=1&amp;c"/>
          <p:cNvPicPr/>
          <p:nvPr/>
        </p:nvPicPr>
        <p:blipFill>
          <a:blip r:embed="rId2"/>
          <a:srcRect l="41769" t="2311" r="11869" b="46676"/>
          <a:stretch/>
        </p:blipFill>
        <p:spPr>
          <a:xfrm>
            <a:off x="220680" y="1752480"/>
            <a:ext cx="1828800" cy="2011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" descr=""/>
          <p:cNvPicPr/>
          <p:nvPr/>
        </p:nvPicPr>
        <p:blipFill>
          <a:blip r:embed="rId3"/>
          <a:srcRect l="52312" t="1248" r="2690" b="68760"/>
          <a:stretch/>
        </p:blipFill>
        <p:spPr>
          <a:xfrm>
            <a:off x="6858000" y="2666880"/>
            <a:ext cx="2225520" cy="148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ttp://blog.chron.com/careerrescue/files/2012/08/blog.listenkid0820.jpg"/>
          <p:cNvPicPr/>
          <p:nvPr/>
        </p:nvPicPr>
        <p:blipFill>
          <a:blip r:embed="rId4"/>
          <a:stretch/>
        </p:blipFill>
        <p:spPr>
          <a:xfrm>
            <a:off x="103320" y="4114800"/>
            <a:ext cx="2295360" cy="153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ttp://www.infobuild.co.za/wp-content/uploads/lift_up_celebration.png"/>
          <p:cNvPicPr/>
          <p:nvPr/>
        </p:nvPicPr>
        <p:blipFill>
          <a:blip r:embed="rId5"/>
          <a:stretch/>
        </p:blipFill>
        <p:spPr>
          <a:xfrm>
            <a:off x="6934320" y="4416480"/>
            <a:ext cx="20462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1109520" y="3439440"/>
            <a:ext cx="8202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ección 3: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¿Estamos dispuestos 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focarnos en los demá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36800" y="11505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244880" y="129780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08200" y="2399040"/>
            <a:ext cx="683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Usualmente me enfoco en 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 y en sus intereses, o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foco en mí mis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188640" y="81360"/>
            <a:ext cx="729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lo mejor de la gente casi siem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ca a relucir lo mejor de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572000" y="2228040"/>
            <a:ext cx="4381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generalmente responden a las expectativas que sienten que los líderes tienen de ella. Los líderes deben poner un número “10” imaginario en la frente de todo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152280" y="2057400"/>
            <a:ext cx="4191120" cy="4724280"/>
            <a:chOff x="152280" y="2057400"/>
            <a:chExt cx="4191120" cy="4724280"/>
          </a:xfrm>
        </p:grpSpPr>
        <p:pic>
          <p:nvPicPr>
            <p:cNvPr id="138" name="Picture 2" descr="ttp://images.clipartpanda.com/friendship-clipart-9Tpeeop8c.jpeg"/>
            <p:cNvPicPr/>
            <p:nvPr/>
          </p:nvPicPr>
          <p:blipFill>
            <a:blip r:embed="rId1"/>
            <a:srcRect l="16640" t="407" r="17312" b="1335"/>
            <a:stretch/>
          </p:blipFill>
          <p:spPr>
            <a:xfrm>
              <a:off x="152280" y="2061360"/>
              <a:ext cx="4191120" cy="47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6" descr="ttp://www.clker.com/cliparts/y/2/P/1/q/r/pink-tilted-tiara-and-number-10-hi.png"/>
            <p:cNvPicPr/>
            <p:nvPr/>
          </p:nvPicPr>
          <p:blipFill>
            <a:blip r:embed="rId2"/>
            <a:stretch/>
          </p:blipFill>
          <p:spPr>
            <a:xfrm>
              <a:off x="2995200" y="2057400"/>
              <a:ext cx="730800" cy="66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0" y="1219320"/>
            <a:ext cx="90518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rnabé era un gran líder en el Nuevo Testamento, de hecho su nombre significa: el hijo de consolación. Les daba su dinero, su tiempo, ánimo y creencias a los demás, aun cuando esas personas mostraran pequeñas señales de tener un gran potencial. Por ejemplo, Juan Marcos era un joven que andaba con Pablo y Bernabé en un viaje de misiones, pero debido al miedo y la inmadurez, Marcos se dio por vencido y regresó a casa. Pablo se rehusó a llevarlo en otro viaje, no quería darle a este hombre una segunda oportunidad. Sin embargo, Bernabé vio el potencial y tomó a Marcos bajo su tutela hasta que floreció. Años después, Pablo estaba en la prisión y se dio cuenta del valor de Juan Marcos, a tal punto que pidió que lo mandaran a la cárcel en que se encontraba para que le ayudara (II Timoteo 4:11).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60960" y="1495440"/>
            <a:ext cx="74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vio potencial que otros no veí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09480" y="2145600"/>
            <a:ext cx="72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mostró gracia cuando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tían que nadie la merec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582480" y="3228840"/>
            <a:ext cx="472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encontró oportunidades para que la gente experimentara resultados y éxi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ttp://childrenschapel.org/biblestories/graphics/002-paul-antioch-philippi300x225.jpg"/>
          <p:cNvPicPr/>
          <p:nvPr/>
        </p:nvPicPr>
        <p:blipFill>
          <a:blip r:embed="rId1"/>
          <a:srcRect l="13295" t="0" r="12794" b="0"/>
          <a:stretch/>
        </p:blipFill>
        <p:spPr>
          <a:xfrm>
            <a:off x="5486400" y="3178080"/>
            <a:ext cx="35654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68400" y="179280"/>
            <a:ext cx="90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dades acerca del principio del número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52280" y="99360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uest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EPCIÓ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en algunas personas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berían detenernos en creer en la gen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579840" y="2444400"/>
            <a:ext cx="4041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n corazón confiado está emocional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ALUD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No se convierta en un líd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52280" y="5064840"/>
            <a:ext cx="5410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s comportamos de acuerdo a nuestra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REENCIA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 Cultive una fe saludable y un optimismo en los demá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ttp://www.clipartbest.com/cliparts/4c9/KRA/4c9KRAgcE.gif"/>
          <p:cNvPicPr/>
          <p:nvPr/>
        </p:nvPicPr>
        <p:blipFill>
          <a:blip r:embed="rId1"/>
          <a:stretch/>
        </p:blipFill>
        <p:spPr>
          <a:xfrm>
            <a:off x="7772400" y="762120"/>
            <a:ext cx="1295280" cy="2209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228600" y="2111400"/>
            <a:ext cx="3200400" cy="273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5537160" y="4854600"/>
            <a:ext cx="307332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533520" y="533520"/>
            <a:ext cx="8153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Trate a un hombre como aparenta ser y lo hará peor persona. Pero trate a un hombre como si ya fuera lo que potencialmente puede llegar a ser, y lo hará el hombre que debiese ser»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ann Wolfgang Von Goe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1315080" y="117576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70640" y="281556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reo lo mejor de los de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04920" y="5886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esarse en las personas debe prec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onfrontar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ttp://www.mccaonline.com/wp-content/uploads/Intervention.jpg"/>
          <p:cNvPicPr/>
          <p:nvPr/>
        </p:nvPicPr>
        <p:blipFill>
          <a:blip r:embed="rId1"/>
          <a:stretch/>
        </p:blipFill>
        <p:spPr>
          <a:xfrm>
            <a:off x="1585800" y="3048120"/>
            <a:ext cx="60343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-22320" y="77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tán y David (II Sam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52280" y="21445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án había estado escuchando de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52280" y="275436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Natán conocía las circunstancias de Dav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52280" y="3392640"/>
            <a:ext cx="3657600" cy="3465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4191120" y="3316320"/>
            <a:ext cx="478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Natán fue objetivo en su perspectiva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11480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Natán comprendía la raíz del asunto (v.9-1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114800" y="5478840"/>
            <a:ext cx="493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Natán vio la causa y el efecto máximo del pecado de David (v.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2840" y="700920"/>
            <a:ext cx="9078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rendemos lo siguiente del profeta Natán mientras confrontaba al rey David después de que hubiera pecado con Betsabé: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184320" y="306000"/>
            <a:ext cx="75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pa para la confrontación salud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2440" y="1161720"/>
            <a:ext cx="890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e a las personas con el cariño 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 tiene, mostrando su interés por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04920" y="2487240"/>
            <a:ext cx="78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sque primero el entendimiento, 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cesariamente estar de acuerd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04920" y="38034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erden un plan de 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5246640" y="3809880"/>
            <a:ext cx="38210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14200" y="201960"/>
            <a:ext cx="870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is principios sociales que responden la pregunta de la relación: ¿ESTAMOS DISPUESTOS A ENFOCARNOS EN LOS DEMÁ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28600" y="1753920"/>
            <a:ext cx="75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3516840"/>
            <a:ext cx="4890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da la población, con una pequeña excepción, está compuesta por los demás seres hu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1"/>
          <a:srcRect l="7728" t="11849" r="8902" b="11358"/>
          <a:stretch/>
        </p:blipFill>
        <p:spPr>
          <a:xfrm>
            <a:off x="4952880" y="2700360"/>
            <a:ext cx="4052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1396080" y="122184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143000" y="23554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importa lo suficiente como p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ar de la manera correc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9360" y="533520"/>
            <a:ext cx="905832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Toda la población, con una pequeña excepción, está compuesta por los demás seres human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62000" y="0"/>
            <a:ext cx="905832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ios de Conne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1862640"/>
            <a:ext cx="8991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Debemos ponernos nosotros en el lugar de o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52280" y="281376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ada persona que conocemos tiene el potencial de enseñarnos alg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76320" y="3846600"/>
            <a:ext cx="89154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La gente se interesa en la persona que se interesa en el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52280" y="4821120"/>
            <a:ext cx="906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reer lo mejor de la gente casi siempre saca a relucir lo mejor de la g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76320" y="590148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Interesarse en las personas debe preceder a confrontar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1079280" y="106812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870920" y="1757880"/>
            <a:ext cx="690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de estos principios rel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ctica mej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cuál es usted más déb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990720" y="3677400"/>
            <a:ext cx="29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752480" y="4383360"/>
            <a:ext cx="711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criba el paso que debería tomar p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 su relación con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52280" y="15480"/>
            <a:ext cx="883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la mayoría de la gente, incluyendo a los líderes, les resulta difícil vivir más allá de su mundo pequeñ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 romper el molde, los líderes deben reunir tres recur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47960" y="3303360"/>
            <a:ext cx="36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64880" y="4294080"/>
            <a:ext cx="28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99440" y="5437080"/>
            <a:ext cx="46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ONS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900680" y="2995560"/>
            <a:ext cx="4240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76320" y="114300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a ilustración clásica de un líder que falló en practicar este principio, es el rey Nabucodonosor. Después de que su ejército capturó a los ciudadanos de Israel, este rey escogió a los mejores jóvenes israelitas y comenzó a presionarlos para que cedieran a lo que él deseara. De hecho, la población entera de Babilonia se volvió arrogante y presuntuosa, reinaron esa porción del mundo por mucho años. El rey Nabucodonosor mostró ser uno de los reyes más arrogantes de la historia y Dios tuvo que tratar con él de la manera más inusual, lo llevó de su posición de rey a vivir como un animal en el campo. Permaneció allí hasta que reconoció completamente a Dios como el gobernante supremo del mundo. Tuvo que aprender a someterse, a renunciar a tener el control y volverse dócil. En Daniel 4:36-37, el rey Nabucodonosor fue un líder diferent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74040" y="1146240"/>
            <a:ext cx="735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cómo desarrolló una perspectiva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dro compl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18240" y="2287440"/>
            <a:ext cx="45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labra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RA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16080" y="2897280"/>
            <a:ext cx="37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erspectiv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Ó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54600" y="3446280"/>
            <a:ext cx="37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Corazó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UMIL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ttp://hispresenceonline.org/wp-content/uploads/2015/03/1-NEBUCHADNEZZAR-720x340.jpg"/>
          <p:cNvPicPr/>
          <p:nvPr/>
        </p:nvPicPr>
        <p:blipFill>
          <a:blip r:embed="rId1"/>
          <a:stretch/>
        </p:blipFill>
        <p:spPr>
          <a:xfrm>
            <a:off x="3505320" y="4119480"/>
            <a:ext cx="563868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1091160" y="12978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478520" y="2507760"/>
            <a:ext cx="693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cuesta trabajo poner a ot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mer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144360" y="1962000"/>
            <a:ext cx="89917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 éxito puede traer muchas cosas: poder, prestigio, fama y riqueza. Tristemente así como los líderes ascienden a su posición, se olvidan del lugar de dónde vinieron. Al viajar por el mundo, nuestro equipo de EQUIP ha observado que muchos líderes abusan de aquellos que están a su cargo, por lo que el liderazgo se convierte en una travesía de poder. Tanto es así que entre más pobreza haya en un país, más abuso, y esto no es un modelo bíblico de liderazgo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152280" y="152280"/>
            <a:ext cx="8991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ús, el líder supremo, nació en un establo, y jamás sintió que fuera demasiado importante como para servir a los pobres o discapacitados; de hecho, frecuentemente comía con las personas de clase más baja en la sociedad. A pesar de ser el líder perfecto, su meta no era poner a las personas en su lugar, recordándoles lo imperfectas que eran; por el contrario, se puso en su lugar, caminó por donde ellos caminaron, interactuó con ellos en su lenguaje cotidiano y sufrió lo que ellos sufrieron (Hebreos 4:15). ¿Por qué los líderes fallan en practicar esto? Es sencillo, por naturaleza no nos vemos a nosotros mismos y a los demás desde la misma perspectiva; cuando fallamos en ver las cosas desde la perspectiva de los demás, fallamos en nuestras relaciones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41:50Z</dcterms:created>
  <dc:creator>montecyr@yahoo.com</dc:creator>
  <dc:description/>
  <dc:language>en-US</dc:language>
  <cp:lastModifiedBy>Monte Cyr</cp:lastModifiedBy>
  <dcterms:modified xsi:type="dcterms:W3CDTF">2021-02-19T21:20:20Z</dcterms:modified>
  <cp:revision>16</cp:revision>
  <dc:subject/>
  <dc:title>PowerPoint Presentation</dc:title>
</cp:coreProperties>
</file>